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83F5-7C71-452A-93E3-F974CD834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1028-EDA5-4A68-80CB-FF4C77BFF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C7E-B988-4EBD-BFEB-8843B597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BC1-DAB3-4A9F-B811-AE5A6DF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A6B-4595-432F-B155-DFEBE44E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177-612C-4F63-9C45-4BCD1069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774E-D85A-48DE-813C-FE459B2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9CDF-F44E-4809-8D38-2CECBD7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F0D8-7D37-444F-B9C8-C362059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1F7-B989-4071-A082-2470E206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23CF-93E5-44FC-99EC-2C712591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EC10-B6F7-4EBD-BF13-190376E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6A78-8548-409A-AACA-B2AA2FC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681-3C03-4297-B69F-4FB8C680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8549-9733-48BC-9A0B-2D2D911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D939-8301-4D20-B0F0-3886DFD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4CED-105D-4198-98D2-1492C0F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C14-A64A-41A4-9BFD-05E6B4F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16D8-3016-4160-9DE7-865523AD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B7E8-6165-4431-A2A3-26383F50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7F11-149F-4F0D-91AB-EE9DB85C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D47F-D58B-4D62-BC55-3DE5101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B29A-0DF6-4317-96CF-290FF65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7FB6-1843-4400-B76C-EE3B2DF6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2E6-6E2F-4B25-A5F8-306EE2B6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01CA-6B49-49FC-9774-083B4AE5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796D-80D3-455D-947E-FE85624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8FBC-8A3C-43E1-A7E9-FD0D0E8B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9146-2D36-4F7A-90CD-702D1D7B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9BF3-6C94-4C5B-AFD9-4AF6141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B54E-DF2C-491D-892B-55E2973F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5AE4-409C-4426-867F-1E79A004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F3C0-B58A-4AE8-9253-5CCEB880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425D-0942-42B1-B7B3-A739637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FE7C-38CF-486E-96C1-67FDC3AC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A52-D721-47A5-AF2F-FDDC8AB2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ED8E-49A7-4A87-B70C-AADF9F2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E4D25-0A08-41EE-91AE-3C6D57C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CB8A-4039-414D-9E08-44717427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BFCE8-E099-4ADD-A2DB-C0D784D4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B1D5-942B-465B-8195-0ADC4D2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AAC9-ABB4-4B27-A698-F01CE9C5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C7DE-E1B6-49C3-BD4C-65AE4B42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4010-0D9F-4BB1-9885-2864B87D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CDA0-1EE2-4F88-91DD-FAD557C7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C5D-568B-40E9-9A15-B9837250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D9F-8C3A-47AC-ADA2-9CAF7A8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773-6668-4FE0-A215-2C8ADD5D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366-3320-403A-A20B-24B88B7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C1F-F483-4BF7-8C10-9A9F0F8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0E5D-CE73-4EAD-94DE-A01AA053252D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EEA8-CBB8-4596-B103-430CBCF2D738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3ED-250D-4743-A590-CEFC4097B8F2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C48D-5773-4F81-81E2-97F5EF7BF2B4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2400" y="6858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ХАНС КРИСТИАН АНДЕРСЕН</a:t>
            </a:r>
            <a:br>
              <a:rPr sz="5000"/>
            </a:b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(1805-1875)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3" name="Picture 4" descr="F:\13 марта\анд.jpg"/>
          <p:cNvPicPr/>
          <p:nvPr/>
        </p:nvPicPr>
        <p:blipFill>
          <a:blip r:embed="rId1"/>
          <a:stretch/>
        </p:blipFill>
        <p:spPr>
          <a:xfrm>
            <a:off x="2743200" y="1905120"/>
            <a:ext cx="182880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1920" y="22860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ктёром Андерсен так и не ста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н много путешествова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стал знаменитым сказочни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ри его жизни сказки были переведен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 пятнадцать язык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осле смерти – едва ли не на все языки ми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 Кристиан Андерсен сочини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более ста семидесяти сказок, семьсот семьдесят стихотворени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шесть романо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множество пье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F:\13 марта\огниво.jpg"/>
          <p:cNvPicPr/>
          <p:nvPr/>
        </p:nvPicPr>
        <p:blipFill>
          <a:blip r:embed="rId1"/>
          <a:stretch/>
        </p:blipFill>
        <p:spPr>
          <a:xfrm>
            <a:off x="7238880" y="304920"/>
            <a:ext cx="1602000" cy="2271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F:\13 марта\г.ут.jpg"/>
          <p:cNvPicPr/>
          <p:nvPr/>
        </p:nvPicPr>
        <p:blipFill>
          <a:blip r:embed="rId2"/>
          <a:stretch/>
        </p:blipFill>
        <p:spPr>
          <a:xfrm>
            <a:off x="4648320" y="228600"/>
            <a:ext cx="170640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F:\13 марта\атик.jpg"/>
          <p:cNvPicPr/>
          <p:nvPr/>
        </p:nvPicPr>
        <p:blipFill>
          <a:blip r:embed="rId3"/>
          <a:stretch/>
        </p:blipFill>
        <p:spPr>
          <a:xfrm>
            <a:off x="7561440" y="4724280"/>
            <a:ext cx="158256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F:\13 марта\дюйм.jpg"/>
          <p:cNvPicPr/>
          <p:nvPr/>
        </p:nvPicPr>
        <p:blipFill>
          <a:blip r:embed="rId4"/>
          <a:stretch/>
        </p:blipFill>
        <p:spPr>
          <a:xfrm>
            <a:off x="4648320" y="4419720"/>
            <a:ext cx="1828800" cy="2260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F:\13 марта\лебеди.jpg"/>
          <p:cNvPicPr/>
          <p:nvPr/>
        </p:nvPicPr>
        <p:blipFill>
          <a:blip r:embed="rId5"/>
          <a:stretch/>
        </p:blipFill>
        <p:spPr>
          <a:xfrm>
            <a:off x="4572000" y="2514600"/>
            <a:ext cx="1766880" cy="198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F:\13 марта\принц.jpg"/>
          <p:cNvPicPr/>
          <p:nvPr/>
        </p:nvPicPr>
        <p:blipFill>
          <a:blip r:embed="rId6"/>
          <a:stretch/>
        </p:blipFill>
        <p:spPr>
          <a:xfrm>
            <a:off x="6400800" y="259092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13 марта\ко.jpg"/>
          <p:cNvPicPr/>
          <p:nvPr/>
        </p:nvPicPr>
        <p:blipFill>
          <a:blip r:embed="rId1"/>
          <a:stretch/>
        </p:blipFill>
        <p:spPr>
          <a:xfrm>
            <a:off x="1260360" y="685800"/>
            <a:ext cx="280692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F:\13 марта\копен.jpg"/>
          <p:cNvPicPr/>
          <p:nvPr/>
        </p:nvPicPr>
        <p:blipFill>
          <a:blip r:embed="rId2"/>
          <a:stretch/>
        </p:blipFill>
        <p:spPr>
          <a:xfrm>
            <a:off x="5181480" y="878040"/>
            <a:ext cx="259092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13 марта\копенг.jpg"/>
          <p:cNvPicPr/>
          <p:nvPr/>
        </p:nvPicPr>
        <p:blipFill>
          <a:blip r:embed="rId3"/>
          <a:stretch/>
        </p:blipFill>
        <p:spPr>
          <a:xfrm>
            <a:off x="1219320" y="3322800"/>
            <a:ext cx="3276360" cy="28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F:\13 марта\копе.jpg"/>
          <p:cNvPicPr/>
          <p:nvPr/>
        </p:nvPicPr>
        <p:blipFill>
          <a:blip r:embed="rId4"/>
          <a:stretch/>
        </p:blipFill>
        <p:spPr>
          <a:xfrm>
            <a:off x="5181480" y="3781440"/>
            <a:ext cx="2895840" cy="25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F:\13 марта\ол.солд.jpg"/>
          <p:cNvPicPr/>
          <p:nvPr/>
        </p:nvPicPr>
        <p:blipFill>
          <a:blip r:embed="rId5"/>
          <a:stretch/>
        </p:blipFill>
        <p:spPr>
          <a:xfrm>
            <a:off x="3705120" y="2514600"/>
            <a:ext cx="19335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66"/>
                </a:solidFill>
                <a:latin typeface="Calibri"/>
              </a:rPr>
              <a:t>4  августа 1875 года великого   сказочника не стало.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F:\Андерсен\569_PICT0414.jpg"/>
          <p:cNvPicPr/>
          <p:nvPr/>
        </p:nvPicPr>
        <p:blipFill>
          <a:blip r:embed="rId1"/>
          <a:stretch/>
        </p:blipFill>
        <p:spPr>
          <a:xfrm>
            <a:off x="228600" y="1447920"/>
            <a:ext cx="3983040" cy="48290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4" descr=""/>
          <p:cNvPicPr/>
          <p:nvPr/>
        </p:nvPicPr>
        <p:blipFill>
          <a:blip r:embed="rId2"/>
          <a:stretch/>
        </p:blipFill>
        <p:spPr>
          <a:xfrm>
            <a:off x="4346640" y="2133720"/>
            <a:ext cx="479736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51920"/>
            <a:ext cx="472464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7493d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еликому сказочни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его героям поставлены  памятники. А героиня сказки Х.К.Андерсена «Русалочка» стала символом столицы Дании – Копенга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чиная с 1967 год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о решению Международного совета по детской книг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2 апреля (в день рождения Ханса Кристиана Андерсена) отмечается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Bookman Old Style"/>
                <a:hlinkClick r:id="rId1" action="ppaction://hlinksldjump"/>
              </a:rPr>
              <a:t>Международный день детской книг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Русалочка"/>
          <p:cNvPicPr/>
          <p:nvPr/>
        </p:nvPicPr>
        <p:blipFill>
          <a:blip r:embed="rId2"/>
          <a:stretch/>
        </p:blipFill>
        <p:spPr>
          <a:xfrm>
            <a:off x="5410080" y="914400"/>
            <a:ext cx="3332160" cy="4433760"/>
          </a:xfrm>
          <a:prstGeom prst="rect">
            <a:avLst/>
          </a:prstGeom>
          <a:ln w="76320">
            <a:solidFill>
              <a:srgbClr val="87493d"/>
            </a:solidFill>
            <a:miter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ab0043"/>
                </a:solidFill>
                <a:latin typeface="Bookman Old Style"/>
              </a:rPr>
              <a:t>Дом Х.К. Андерсена в г.Копенгагене</a:t>
            </a:r>
            <a:endParaRPr b="0" lang="en-US" sz="5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2" name="Picture 5" descr="Дом Андерсенв в Копенгагене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57840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F:\13 марта\огниво.jpg"/>
          <p:cNvPicPr/>
          <p:nvPr/>
        </p:nvPicPr>
        <p:blipFill>
          <a:blip r:embed="rId1"/>
          <a:stretch/>
        </p:blipFill>
        <p:spPr>
          <a:xfrm>
            <a:off x="228600" y="304920"/>
            <a:ext cx="145728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F:\13 марта\св.пас.jpg"/>
          <p:cNvPicPr/>
          <p:nvPr/>
        </p:nvPicPr>
        <p:blipFill>
          <a:blip r:embed="rId2"/>
          <a:stretch/>
        </p:blipFill>
        <p:spPr>
          <a:xfrm>
            <a:off x="457200" y="2286000"/>
            <a:ext cx="1940040" cy="251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F:\13 марта\г.ут.jpg"/>
          <p:cNvPicPr/>
          <p:nvPr/>
        </p:nvPicPr>
        <p:blipFill>
          <a:blip r:embed="rId3"/>
          <a:stretch/>
        </p:blipFill>
        <p:spPr>
          <a:xfrm>
            <a:off x="2362320" y="0"/>
            <a:ext cx="1766880" cy="2057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F:\13 марта\атик.jpg"/>
          <p:cNvPicPr/>
          <p:nvPr/>
        </p:nvPicPr>
        <p:blipFill>
          <a:blip r:embed="rId4"/>
          <a:stretch/>
        </p:blipFill>
        <p:spPr>
          <a:xfrm>
            <a:off x="1752480" y="4191120"/>
            <a:ext cx="1690920" cy="2357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F:\13 марта\дюйм.jpg"/>
          <p:cNvPicPr/>
          <p:nvPr/>
        </p:nvPicPr>
        <p:blipFill>
          <a:blip r:embed="rId5"/>
          <a:stretch/>
        </p:blipFill>
        <p:spPr>
          <a:xfrm>
            <a:off x="4876920" y="0"/>
            <a:ext cx="1490400" cy="2152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F:\13 марта\дик.леб.jpg"/>
          <p:cNvPicPr/>
          <p:nvPr/>
        </p:nvPicPr>
        <p:blipFill>
          <a:blip r:embed="rId6"/>
          <a:stretch/>
        </p:blipFill>
        <p:spPr>
          <a:xfrm>
            <a:off x="2971800" y="205740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F:\13 марта\оле.jpg"/>
          <p:cNvPicPr/>
          <p:nvPr/>
        </p:nvPicPr>
        <p:blipFill>
          <a:blip r:embed="rId7"/>
          <a:stretch/>
        </p:blipFill>
        <p:spPr>
          <a:xfrm>
            <a:off x="7010280" y="228600"/>
            <a:ext cx="1852560" cy="217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F:\13 марта\рус.jpg"/>
          <p:cNvPicPr/>
          <p:nvPr/>
        </p:nvPicPr>
        <p:blipFill>
          <a:blip r:embed="rId8"/>
          <a:stretch/>
        </p:blipFill>
        <p:spPr>
          <a:xfrm>
            <a:off x="4114800" y="4114800"/>
            <a:ext cx="1809720" cy="228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:\13 марта\сн.кор.jpg"/>
          <p:cNvPicPr/>
          <p:nvPr/>
        </p:nvPicPr>
        <p:blipFill>
          <a:blip r:embed="rId9"/>
          <a:stretch/>
        </p:blipFill>
        <p:spPr>
          <a:xfrm>
            <a:off x="5562720" y="22096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F:\13 марта\принц.jpg"/>
          <p:cNvPicPr/>
          <p:nvPr/>
        </p:nvPicPr>
        <p:blipFill>
          <a:blip r:embed="rId10"/>
          <a:stretch/>
        </p:blipFill>
        <p:spPr>
          <a:xfrm>
            <a:off x="6705720" y="4038480"/>
            <a:ext cx="1676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 сказках  Х. К.Андерсена есть всё,</a:t>
            </a:r>
            <a:br>
              <a:rPr sz="3200"/>
            </a:b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что должно всегда жить в человек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уважение к мужеству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доброта и сочувствие всем, кому плохо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любовь к людя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презрение к чванливым и бессердечны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В память о великом сказочнике</a:t>
            </a:r>
            <a:endParaRPr b="0" lang="en-US" sz="4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2 апреля – международный день детской книг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Учреждена международная премия Андерсена за создание лучшей книги дл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Вручается золотая медал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с профилем  Андерсе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9" descr="Медаль"/>
          <p:cNvPicPr/>
          <p:nvPr/>
        </p:nvPicPr>
        <p:blipFill>
          <a:blip r:embed="rId1"/>
          <a:stretch/>
        </p:blipFill>
        <p:spPr>
          <a:xfrm>
            <a:off x="6629400" y="434340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F:\13 марта\анде.jpg"/>
          <p:cNvPicPr/>
          <p:nvPr/>
        </p:nvPicPr>
        <p:blipFill>
          <a:blip r:embed="rId1"/>
          <a:stretch/>
        </p:blipFill>
        <p:spPr>
          <a:xfrm>
            <a:off x="55440" y="1054080"/>
            <a:ext cx="3962520" cy="4829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032000" y="914040"/>
            <a:ext cx="5111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69"/>
                </a:solidFill>
                <a:latin typeface="Constantia"/>
              </a:rPr>
              <a:t>Великий датский сказочник, придумавший огромное количество замечательных сказочных истор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29000" y="8380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71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В Дании есть маленький остров </a:t>
            </a:r>
            <a:r>
              <a:rPr b="1" i="1" lang="ru-RU" sz="2400" spc="-1" strike="noStrike" u="sng">
                <a:solidFill>
                  <a:srgbClr val="4c99ff"/>
                </a:solidFill>
                <a:uFillTx/>
                <a:latin typeface="Bookman Old Style"/>
              </a:rPr>
              <a:t>Фюн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, а на нем город </a:t>
            </a:r>
            <a:r>
              <a:rPr b="1" i="1" lang="ru-RU" sz="2400" spc="-1" strike="noStrike" u="sng">
                <a:solidFill>
                  <a:srgbClr val="4c99ff"/>
                </a:solidFill>
                <a:uFillTx/>
                <a:latin typeface="Bookman Old Style"/>
              </a:rPr>
              <a:t>Оденсе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. 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Здесь 2 апреля 1805 года и родился будущий знаменитый сказочник. Семья жила на самой окраине, возле реки, и была очень бедна. Отец был башмачником. Мать была прачкой. Ханс учился в школе для бедных. Там преподавали письмо, арифметику и Закон Бож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андерсен"/>
          <p:cNvPicPr/>
          <p:nvPr/>
        </p:nvPicPr>
        <p:blipFill>
          <a:blip r:embed="rId1"/>
          <a:stretch/>
        </p:blipFill>
        <p:spPr>
          <a:xfrm>
            <a:off x="-6480" y="1152360"/>
            <a:ext cx="3517920" cy="4260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Bookman Old Style"/>
              </a:rPr>
              <a:t>Город Оденсе.  Дом, в котором родился писатель. </a:t>
            </a:r>
            <a:br>
              <a:rPr sz="2800"/>
            </a:b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1" name="Picture 4" descr="Дом"/>
          <p:cNvPicPr/>
          <p:nvPr/>
        </p:nvPicPr>
        <p:blipFill>
          <a:blip r:embed="rId1"/>
          <a:stretch/>
        </p:blipFill>
        <p:spPr>
          <a:xfrm>
            <a:off x="2133720" y="2209680"/>
            <a:ext cx="5130720" cy="3962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есмотря на то, что семья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была бедной, у маленьк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а не было недостатка 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грушках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Чего только  не делал ему отец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картинки с превращения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двигающиеся мельниц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 кивающие головами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самодельные куклы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 какие  интересные сказ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рассказывал мальчику отец –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споминал те, что слышал  в детств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ересказывал и читал кни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100"/>
          <p:cNvPicPr/>
          <p:nvPr/>
        </p:nvPicPr>
        <p:blipFill>
          <a:blip r:embed="rId1"/>
          <a:stretch/>
        </p:blipFill>
        <p:spPr>
          <a:xfrm>
            <a:off x="6426360" y="0"/>
            <a:ext cx="24904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 и са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чал придумывать сказк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о рассказывать их взрослым стеснял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ервые сказки Андерсена слушал только</a:t>
            </a:r>
            <a:r>
              <a:rPr b="1" i="1" lang="en-US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старый домашний ко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тец Андерсена всегда мечт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 путешествиях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о так нигде и не побыва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 мальчик придумывает сказ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 китайском принц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который пророет весь земной шар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ылезет прямо в Оденс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заберет его с собой в Кита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101"/>
          <p:cNvPicPr/>
          <p:nvPr/>
        </p:nvPicPr>
        <p:blipFill>
          <a:blip r:embed="rId1"/>
          <a:stretch/>
        </p:blipFill>
        <p:spPr>
          <a:xfrm>
            <a:off x="6781680" y="2209680"/>
            <a:ext cx="16765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Обладавший красивым певучим голосом, Андерсен с детства был вхож во многие богатые дома Оденсе. Ханс Кристиан развлекал хозяев пением и чтением, за что получил прозвище «маленький соловей с острова Фюн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В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Bookman Old Style"/>
                <a:hlinkClick r:id="rId1" action="ppaction://hlinksldjump"/>
              </a:rPr>
              <a:t>провинциальном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датском городке Оденсе был и теат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bbfd"/>
                </a:solidFill>
                <a:uFillTx/>
                <a:latin typeface="Bookman Old Style"/>
                <a:hlinkClick r:id="rId2" action="ppaction://hlinksldjump"/>
              </a:rPr>
              <a:t>Гастроли труппы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Королевского театра Копенгагена сыграли, решающую роль в выборе пути,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который определил для себ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юный Ханс Кристиан Андерсен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7493d"/>
                </a:solidFill>
                <a:latin typeface="Bookman Old Styl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F:\13 марта\од.театор.jpg"/>
          <p:cNvPicPr/>
          <p:nvPr/>
        </p:nvPicPr>
        <p:blipFill>
          <a:blip r:embed="rId3"/>
          <a:stretch/>
        </p:blipFill>
        <p:spPr>
          <a:xfrm>
            <a:off x="4761000" y="1176480"/>
            <a:ext cx="4017960" cy="31762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6"/>
          <p:cNvSpPr/>
          <p:nvPr/>
        </p:nvSpPr>
        <p:spPr>
          <a:xfrm>
            <a:off x="4572000" y="4572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8007f"/>
                </a:solidFill>
                <a:latin typeface="Arial"/>
              </a:rPr>
              <a:t>Театр в Оден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352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 1814 году умер отец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есёлое детство Андерсена закончи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Одиннадцатилетнем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Хансу Кристиан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пришлось бросить школ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и устроиться работа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на фабрик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 14 лет Ханс отправился в Копенгаген. Город показался ему великаном. Мечта Андерсена – стать актёром.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Копенгаген"/>
          <p:cNvPicPr/>
          <p:nvPr/>
        </p:nvPicPr>
        <p:blipFill>
          <a:blip r:embed="rId2"/>
          <a:stretch/>
        </p:blipFill>
        <p:spPr>
          <a:xfrm>
            <a:off x="1066680" y="2057400"/>
            <a:ext cx="7229520" cy="4363920"/>
          </a:xfrm>
          <a:prstGeom prst="rect">
            <a:avLst/>
          </a:prstGeom>
          <a:ln w="38160">
            <a:solidFill>
              <a:srgbClr val="17bbfd"/>
            </a:solidFill>
            <a:miter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чальная</dc:creator>
  <dc:description/>
  <dc:language>en-US</dc:language>
  <cp:lastModifiedBy>Начальная</cp:lastModifiedBy>
  <dcterms:modified xsi:type="dcterms:W3CDTF">2020-05-15T19:24:15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